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DC81-A00E-468C-AAA9-C0EEE8CBB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4613-1134-4DC4-A561-FED25B1E7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EA1-C6C3-4A04-A67B-10629D2F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4B3-DF4C-4941-A14E-2B90628E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0E2-8DA6-4F2E-BDC3-9EFEE63E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DF4-E5FF-4D54-A8EB-401E697F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92C2-51FE-4CE3-A0D4-28D91939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6FDE-C1C1-4084-86AF-34F6DF77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C7C1-14AD-4925-9F29-30D0AFA2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6E02-C77E-476B-A446-DB84CE12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54B2-4BBD-430E-83E2-400BB71C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AAAA-9578-442D-BBC9-43A0C606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EF15-B638-4FAF-BE6F-55D1EEC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483-F453-4D63-AEDF-C1210606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EAB3-1F3F-4DEB-9FBE-F8A639A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73A3-E507-4E4D-B6CE-25D3E95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63C7-F050-43F5-8CEF-CACA7BF2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7247-9AE3-4FF6-9875-79EEF304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CDCF-1A1D-4B87-810B-36210A9D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D30-694C-4C7D-A430-A17E3789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10E-E4D2-4C4C-B05D-63ED172B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A58-E02C-4FBA-B023-DA3EBC39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617-2739-4352-AFBC-9F6DB1AD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D42-690F-4E0F-98B6-7F20AF59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7EA-5D90-4143-83E9-B9BA1E2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20D-6E62-45D3-A4CE-E6F659C5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F16-CB28-4E88-9FCA-F592FCD0E0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518D-859A-4762-BEFB-633619E5C9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Housing I  7.05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echnological Advances in Home Design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yclable build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homes to use less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x steel is stronger than wood so for framing less material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tomated management syst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nd centrally controlled system based on compute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erg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$$$$$ to the cost of home, but will reduce energy bills and insurance cost over life of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_799128_pursepad300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RT houses: 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ucture with a central computer for programming its environment, devices, and appl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9"/>
          <p:cNvPicPr/>
          <p:nvPr/>
        </p:nvPicPr>
        <p:blipFill>
          <a:blip r:embed="rId1"/>
          <a:stretch/>
        </p:blipFill>
        <p:spPr>
          <a:xfrm>
            <a:off x="2057400" y="2362320"/>
            <a:ext cx="5257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ose circui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allation of a TV and cameras placed so that areas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owner can use computer to check on home at any time from any 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tic Pip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per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er weight, less expensive than 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biodegr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local code to see size and type of pip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9247asidebig"/>
          <p:cNvPicPr/>
          <p:nvPr/>
        </p:nvPicPr>
        <p:blipFill>
          <a:blip r:embed="rId1"/>
          <a:stretch/>
        </p:blipFill>
        <p:spPr>
          <a:xfrm>
            <a:off x="4267080" y="3975120"/>
            <a:ext cx="2743200" cy="185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pipe"/>
          <p:cNvPicPr/>
          <p:nvPr/>
        </p:nvPicPr>
        <p:blipFill>
          <a:blip r:embed="rId2"/>
          <a:stretch/>
        </p:blipFill>
        <p:spPr>
          <a:xfrm>
            <a:off x="990720" y="4114800"/>
            <a:ext cx="25905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mate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ganically based building materials made from recycled materials; less expensive, last longer than wood, won’t warp or split, has high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molded into variety of shapes/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: it is not biodegr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tic l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de from recycled pla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ow maintenance option for decking and other outdoo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site l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by applying pressure to paper thin strips of wood that have been sprayed with g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beams, joists, studs, window/door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pensive than real wood but stronger and less likely to warp or sh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Lighting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on sensor ligh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causes light to turn on within a given are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ght emitting diode (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s less energy than incandescent bulb and last 10x longer, light is very focused and durable, will not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82f3afdc-d1bc-4f8e-8a7c-2e0a1cec143a_300"/>
          <p:cNvPicPr/>
          <p:nvPr/>
        </p:nvPicPr>
        <p:blipFill>
          <a:blip r:embed="rId1"/>
          <a:stretch/>
        </p:blipFill>
        <p:spPr>
          <a:xfrm>
            <a:off x="6095880" y="380880"/>
            <a:ext cx="15624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35816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n buil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designing, building, and operating homes to use materials, energy and water efficie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green%20building%20drawing"/>
          <p:cNvPicPr/>
          <p:nvPr/>
        </p:nvPicPr>
        <p:blipFill>
          <a:blip r:embed="rId1"/>
          <a:stretch/>
        </p:blipFill>
        <p:spPr>
          <a:xfrm>
            <a:off x="3886200" y="1752480"/>
            <a:ext cx="525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ternative”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chnologies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ar energy or geo-thermal heat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GHP-heating"/>
          <p:cNvPicPr/>
          <p:nvPr/>
        </p:nvPicPr>
        <p:blipFill>
          <a:blip r:embed="rId1"/>
          <a:stretch/>
        </p:blipFill>
        <p:spPr>
          <a:xfrm>
            <a:off x="2362320" y="2895480"/>
            <a:ext cx="52545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insulation"/>
          <p:cNvPicPr/>
          <p:nvPr/>
        </p:nvPicPr>
        <p:blipFill>
          <a:blip r:embed="rId1"/>
          <a:stretch/>
        </p:blipFill>
        <p:spPr>
          <a:xfrm>
            <a:off x="5715000" y="2057400"/>
            <a:ext cx="3219480" cy="2922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nsulationProducts"/>
          <p:cNvPicPr/>
          <p:nvPr/>
        </p:nvPicPr>
        <p:blipFill>
          <a:blip r:embed="rId2"/>
          <a:stretch/>
        </p:blipFill>
        <p:spPr>
          <a:xfrm>
            <a:off x="609480" y="2057400"/>
            <a:ext cx="42865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-efficient heating &amp; cooling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x. low-e gla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efficient appli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28" descr="dyson_washing_machine_jan_04"/>
          <p:cNvPicPr/>
          <p:nvPr/>
        </p:nvPicPr>
        <p:blipFill>
          <a:blip r:embed="rId1"/>
          <a:stretch/>
        </p:blipFill>
        <p:spPr>
          <a:xfrm>
            <a:off x="4952880" y="1371600"/>
            <a:ext cx="3687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59:46Z</dcterms:created>
  <dc:creator>WSFCS Workstation</dc:creator>
  <dc:description/>
  <dc:language>en-US</dc:language>
  <cp:lastModifiedBy>s.brooks</cp:lastModifiedBy>
  <dcterms:modified xsi:type="dcterms:W3CDTF">2010-11-09T14:56:25Z</dcterms:modified>
  <cp:revision>9</cp:revision>
  <dc:subject/>
  <dc:title>7.05 Technological Advances in Home Design </dc:title>
</cp:coreProperties>
</file>